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4BE2-E31A-4F25-BEDB-7FE3585C9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4E72-C204-4AE2-9354-EACAF8A4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80D5-FFD4-42F3-920B-2678FB8E5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1CE0-DD74-43EE-BEFE-57F98F521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6647-D7A8-4C0D-A8C8-CBEB23D97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03AE-37A5-42D7-8F92-53521139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9F7B9-F867-41AF-8C47-BB5AFEA4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13EF-9440-41F5-BE2F-850354D5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94CDD-52D6-4A09-A47E-BB35EC6F2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451F-FB1F-4599-8C7C-6CEC1B6D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EB4A-9BB2-448D-8BD2-E6347CDF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1BE6-C4DF-4B8A-AD0F-66525429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FF39-D7FF-4C41-A45C-3A00F707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00EC-46B2-4BDA-BB92-FFE0A812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600D-F71C-426B-9D49-53A6E6C2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75FF-2B5D-4552-B4CB-EFE58C520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F955-99A6-47D9-B109-D57B7EBD2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B5EA-18B3-403B-91BE-FE236FB4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BEAD-EF00-40DB-89BC-C64D87A3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533F-3E36-41C0-90CA-A381AEC2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418C-4E4D-44CE-A85F-C1B6B9C6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B548-C297-4B4E-B718-5C2C44F5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71B8-1666-4D8F-AA10-453045A6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A9D7-40F0-4128-9E85-D2BC821E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E568-35A0-4D4F-B735-42D4A34452D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EF4E-C418-4BA6-97C6-70F59BE5D65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3520" y="457200"/>
            <a:ext cx="8001000" cy="4952880"/>
          </a:xfrm>
          <a:prstGeom prst="rect">
            <a:avLst/>
          </a:prstGeom>
          <a:solidFill>
            <a:srgbClr val="ffff00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0099"/>
                </a:solidFill>
                <a:latin typeface="Comic Sans MS"/>
              </a:rPr>
              <a:t>Fractions: Are they Mixed-up or just Improper?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Unit Summa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ents will answer the essential question </a:t>
            </a:r>
            <a:r>
              <a:rPr b="1" lang="en-US" sz="2800" spc="-1" strike="noStrike">
                <a:solidFill>
                  <a:srgbClr val="660033"/>
                </a:solidFill>
                <a:latin typeface="Comic Sans MS"/>
              </a:rPr>
              <a:t>“How does math help me understand my world?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rough classroom discussion, lessons about fractions and a final project, students will demonstrate their understanding of fractions and the various, equivalent ways they can be writte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urriculum-Framing 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ssential Question 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w will math help me understand my world?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Unit Questions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y do we need to learn fractions and where do we use fractions in our daily lives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re fractions a part of nature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re fractions a part of daily life?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ntent Questions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at is a fraction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at are ways to represent fractions differently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at is an equivalent fraction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at is an improper fraction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at is a mixed number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at does it mean to “convert”?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85800" y="4648320"/>
            <a:ext cx="1652760" cy="1752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191120" y="4648320"/>
            <a:ext cx="1981080" cy="1704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004760" cy="16002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2057400" y="2133720"/>
            <a:ext cx="56386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 Rounded MT Bold"/>
              </a:rPr>
              <a:t>Fraction Basics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 Rounded MT Bold"/>
              <a:ea typeface="Arial Rounded MT Bold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6400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67080" y="6400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67480" y="6400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1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Rounded MT Bold"/>
              </a:rPr>
              <a:t>What Is a </a:t>
            </a:r>
            <a:r>
              <a:rPr b="1" lang="en-US" sz="5400" spc="-1" strike="noStrike">
                <a:solidFill>
                  <a:srgbClr val="000000"/>
                </a:solidFill>
                <a:latin typeface="Arial Rounded MT Bold"/>
              </a:rPr>
              <a:t>Fraction</a:t>
            </a:r>
            <a:r>
              <a:rPr b="1" lang="en-US" sz="5400" spc="-1" strike="noStrike">
                <a:solidFill>
                  <a:srgbClr val="000000"/>
                </a:solidFill>
                <a:latin typeface="Arial Rounded MT Bold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99640" y="1828440"/>
            <a:ext cx="7412040" cy="20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 fraction names a piece of a single th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is is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ne-half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of a cook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477120" y="2666880"/>
            <a:ext cx="1143000" cy="9828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84280" y="3886200"/>
            <a:ext cx="830556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 fraction names a part of a group of th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ne-third or 1 out of 3 cookies are chocolate ch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133720" y="5257800"/>
            <a:ext cx="1131840" cy="971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371600" cy="938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5334120" y="5334120"/>
            <a:ext cx="1371600" cy="938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81200" y="151920"/>
            <a:ext cx="6675120" cy="15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Rounded MT Bold"/>
              </a:rPr>
              <a:t>Fraction </a:t>
            </a:r>
            <a:r>
              <a:rPr b="1" lang="en-US" sz="5400" spc="-1" strike="noStrike">
                <a:solidFill>
                  <a:srgbClr val="000000"/>
                </a:solidFill>
                <a:latin typeface="Arial Rounded MT Bold"/>
              </a:rPr>
              <a:t>Notatio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44956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2520" y="4572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3581280"/>
            <a:ext cx="1523880" cy="642600"/>
          </a:xfrm>
          <a:prstGeom prst="wedgeRectCallout">
            <a:avLst>
              <a:gd name="adj1" fmla="val -138851"/>
              <a:gd name="adj2" fmla="val 144680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is is the numera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5943600"/>
            <a:ext cx="1981440" cy="642600"/>
          </a:xfrm>
          <a:prstGeom prst="wedgeRectCallout">
            <a:avLst>
              <a:gd name="adj1" fmla="val 77625"/>
              <a:gd name="adj2" fmla="val -117356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his is the denomina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67080" y="5181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Rounded MT Bold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5220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 fraction is a number used to name a part of a group or a part of a who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35812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e fraction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one-fourth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is written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253044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e number </a:t>
            </a:r>
            <a:r>
              <a:rPr b="1" lang="en-US" sz="2400" spc="-1" strike="noStrike" u="sng">
                <a:solidFill>
                  <a:srgbClr val="ffb800"/>
                </a:solidFill>
                <a:uFillTx/>
                <a:latin typeface="Arial Rounded MT Bold"/>
              </a:rPr>
              <a:t>above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the bar is the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numerator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The number </a:t>
            </a:r>
            <a:r>
              <a:rPr b="1" lang="en-US" sz="2400" spc="-1" strike="noStrike" u="sng">
                <a:solidFill>
                  <a:srgbClr val="ffb800"/>
                </a:solidFill>
                <a:uFillTx/>
                <a:latin typeface="Arial Rounded MT Bold"/>
              </a:rPr>
              <a:t>below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 the bar is the 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enominator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6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7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Rounded MT Bold"/>
              </a:rPr>
              <a:t>Fraction </a:t>
            </a:r>
            <a:r>
              <a:rPr b="1" lang="en-US" sz="5400" spc="-1" strike="noStrike">
                <a:solidFill>
                  <a:srgbClr val="000000"/>
                </a:solidFill>
                <a:latin typeface="Arial Rounded MT Bold"/>
              </a:rPr>
              <a:t>Model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ractions can be shown as parts of a circ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85800" y="2406600"/>
            <a:ext cx="1600200" cy="14796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685800" y="2406600"/>
            <a:ext cx="1600200" cy="14796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743200" y="2438280"/>
            <a:ext cx="609588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Here is </a:t>
            </a:r>
            <a:r>
              <a:rPr b="0" lang="en-US" sz="2000" spc="-1" strike="noStrike">
                <a:solidFill>
                  <a:srgbClr val="ff0000"/>
                </a:solidFill>
                <a:latin typeface="Arial Rounded MT Bold"/>
              </a:rPr>
              <a:t>1/4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of a cir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Rounded MT Bold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out of </a:t>
            </a:r>
            <a:r>
              <a:rPr b="0" lang="en-US" sz="2000" spc="-1" strike="noStrike">
                <a:solidFill>
                  <a:srgbClr val="ff0000"/>
                </a:solidFill>
                <a:latin typeface="Arial Rounded MT Bold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parts is shaded in, so we say </a:t>
            </a:r>
            <a:r>
              <a:rPr b="0" lang="en-US" sz="2000" spc="-1" strike="noStrike">
                <a:solidFill>
                  <a:srgbClr val="ff0000"/>
                </a:solidFill>
                <a:latin typeface="Arial Rounded MT Bold"/>
              </a:rPr>
              <a:t>one-fourth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41148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or as parts of a rectang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5168880" y="4218120"/>
            <a:ext cx="3679920" cy="26398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5181480" y="4218120"/>
            <a:ext cx="3679920" cy="26398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600200" y="5334120"/>
            <a:ext cx="7543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Here is </a:t>
            </a:r>
            <a:r>
              <a:rPr b="0" lang="en-US" sz="2000" spc="-1" strike="noStrike">
                <a:solidFill>
                  <a:srgbClr val="ff0000"/>
                </a:solidFill>
                <a:latin typeface="Arial Rounded MT Bold"/>
              </a:rPr>
              <a:t>3/4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of a rectang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Rounded MT Bold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out of </a:t>
            </a:r>
            <a:r>
              <a:rPr b="0" lang="en-US" sz="2000" spc="-1" strike="noStrike">
                <a:solidFill>
                  <a:srgbClr val="ff0000"/>
                </a:solidFill>
                <a:latin typeface="Arial Rounded MT Bold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 parts are shaded in, so we say </a:t>
            </a:r>
            <a:r>
              <a:rPr b="0" lang="en-US" sz="2000" spc="-1" strike="noStrike">
                <a:solidFill>
                  <a:srgbClr val="ff0000"/>
                </a:solidFill>
                <a:latin typeface="Arial Rounded MT Bold"/>
              </a:rPr>
              <a:t>three-fourths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actions can be written in different ways. . . 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b200"/>
                </a:solidFill>
                <a:latin typeface="Comic Sans MS"/>
              </a:rPr>
              <a:t>BUT MEAN THE SAME THING!!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0T21:20:32Z</dcterms:created>
  <dc:creator>Lancer</dc:creator>
  <dc:description/>
  <dc:language>en-US</dc:language>
  <cp:lastModifiedBy>Eldred Central School</cp:lastModifiedBy>
  <dcterms:modified xsi:type="dcterms:W3CDTF">2010-06-30T19:50:00Z</dcterms:modified>
  <cp:revision>33</cp:revision>
  <dc:subject/>
  <dc:title>Fraction Basics</dc:title>
</cp:coreProperties>
</file>